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7D76-521A-4F2F-B7CD-E1CB338C1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2D6C-686B-406E-B4E3-91904B991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DBB654-6DAD-4559-A6C9-B989F99F3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F6D1D7-FFA2-4B69-B043-E05CE9146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567A8B-B45F-4BE3-B432-6D9882998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D5B685-5F22-4634-98BA-0DC2FC99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4DBB7E-791E-48E8-ADB7-9EFFFA17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EDD0FB-8403-49A0-AF44-E4D09E90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067DD4-B451-432C-9AAE-2421EE4FD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05775D-E949-41C0-A234-2A01059CF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2F223A-FD1E-4E93-AB05-7E79534D6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9AE6D0-E6E9-41FF-AEE8-D2AAB566B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8100-6B01-4048-A179-B8D2765A9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489BC7-7F7F-4DC5-84DD-EB5A02000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F364B8-4E31-4AE9-B006-D440FC252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9EC95E-3BCA-4D04-A66C-B5111178F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95869C-1145-418C-BEBA-DAF8037EF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F8251C-7585-41A4-9C5E-1F841D912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62E06F-2801-4568-8F98-2D43C7C3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FF1E18-0A62-4AFB-B5B6-DD7EF746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71CAE1-F9C9-455F-B92F-77DC794B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3E370C-BA5F-43B2-804C-CAA6B0CEA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F3550D-E25E-4D45-8BE7-3C94EEAC8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BA6E-1665-4676-ABDB-D601C5150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A50839-99EF-4604-9BDC-082702BEB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C73FDF-B397-43CA-8269-60302ED2B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BE1B70-C617-443D-9500-B853A032B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EEB480-8251-4001-A6E1-710E3A795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6F91AF-B9CD-4213-9118-8F1FD1F28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4C76E5-BF54-4445-B435-CCB8B2148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977A6D-2CB1-4E5A-BA16-B174EE60E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6A744B-C169-4192-8F93-E3DD7071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76CA46-4FBA-46CF-94DE-1BB4778A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491FCD-14F0-4888-80A7-F4956476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5CBFB-5748-4FD4-93F9-42E60BE06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7CA83D-6A84-4FDE-BED0-D6F4A9757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50EF86-0B35-41D2-83FE-9161C2F40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748D97-1DD3-494F-8A80-324BCFE8A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925429-44EE-495F-AD74-A4202D8D6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74C6F8-2200-43DE-AA73-EC2148744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A6C22A-804A-43F4-ACB6-9A006B655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B350A4-04A0-453B-8E0D-6AD20EB85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AC1CC4-3479-477B-97AE-842584B48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D1CDD2-BDE5-4551-B9F7-161060A13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F94567-8280-4A33-9941-41BBD330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F6B2B-FBE7-4F38-A967-5AAC9FC96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EEA99C-3325-482D-B1A0-6885E7C3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E55C59-89A8-4709-B1D8-A791B608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0955EB-AFE3-4358-9996-E229C97A4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24BA7C-3EBD-4AA1-988C-4E25B6B55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181FAB-C7FA-4C76-A510-59EFFB838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231DB8-25A5-4606-BDD8-5DBC58291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D3F3E6-32B4-4B55-B7C6-867CC5560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F663BB-E27D-47E8-A11D-BAB156470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92B6F9-5C77-404E-BF6B-CBA620C84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583700-0918-49A3-B16D-4CB2008AB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18E6D-751E-47A7-AA79-9D5691E2E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1EF8F6-8557-4B44-AC8A-708223AF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51BC33-87EB-460A-97D2-462AA8A9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C30F6C-D14E-426C-B470-070618C4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24F029-F9CA-4774-8817-7DB736E6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B484B5-25B6-4579-AEAA-384EE3DBD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140B3C-1F22-4B31-91F5-18109E8A6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53B531-3D07-4EB8-92C2-BA8DEF664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94992C-2D52-424A-8647-D7962AEBC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08F5EF-B438-4928-9A0D-FE6838D67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57BBE2-EF59-4141-A6CB-EB34E2A5F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2ED4E-3106-4BEA-9686-5B74AD4EC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4AE268-6337-4DB7-AB73-849FEF7D2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0D4D43-2723-42CA-9B3C-AE932B802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2C2B8F-71F9-4D81-8F1C-6D9CB2AA9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15467E-000D-4B65-89FA-969CCA9E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F31095-60AE-41A3-A04B-340FB114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4B8F29-CB50-4520-ACEF-E259ACEE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A0210F-974D-481F-B0D4-04F6056DE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BDE90D-3114-4495-A1F3-69479A6C7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3E3A36-E427-4F28-B44E-A46986FE9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3776AF-7F0E-477C-8C03-D3A28645E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B938A-9C5B-46ED-9400-2190D5889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44D4D4-7210-46A1-9FF5-7C7AEB5B7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B814A6-210C-4D29-AEF3-29AF11E54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24F0B3-D32B-4B55-A0CB-8C2828F6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FB1C44-6A1F-4BAC-B6F9-1B3ED7A8E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6CBF28-A848-42A7-BB5C-B95D435D5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FCF689-585F-4BE4-B4CD-C8A77E34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9B6E54-92F1-42C4-BD2A-D9BA21C6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494FCE-ACBA-482F-B5B6-C0793439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805108-7D20-45CB-8ED2-B593F636F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ECB8CA-9CF2-45E2-B607-6C04383B5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4CFD2-79F7-48BC-98A2-0398BED77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C0DD4E-4BF6-46D0-BD8A-86BF76E80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F67EC9-46CB-445D-A361-46B5B31BC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0D8179-45B2-47C5-A373-D6C8236FB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863A0D-0D86-4F5D-BBF9-9077996CA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538EBC-7020-4523-A09F-B3E3693D7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16A173-9E72-48A4-A7B0-E96D86F21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1A7FE2-9B6B-4CD5-B01E-7D9537525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C9E9A8-453B-48F8-873D-87408F01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A61554-5FB4-4D5D-9E81-A65737D6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306607-ECCF-402D-8403-4CCF0790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56572-D6C4-466B-83FB-04ECC34B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9A71C0-4B7D-4AEA-B761-E649BE81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A5926A-4E6B-4702-BD70-9E70D01F3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6DD6B0-0D81-4658-83A6-4DD10B43E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9AC6C2-5376-4A56-A7D3-F0AA5EDFD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66A721-013D-493E-8AE0-9AEA6094A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250110-0C5B-4562-9773-54B2C3597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CFB0EE-82AF-4D72-A39D-7D319DB8A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A390BE-792F-45D0-A1E3-20E36FA62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C62757-A3BE-4BF3-95AD-42FBEA409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F1A6FF-1C89-4F16-9892-4B4CDF0A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644B-D8DE-4721-8A4E-F19BCDC74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6F74C-3799-4BE4-B6C0-26547E3F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82F624-1109-4923-83AD-C0E6C1EB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ED42DA-A9C7-4A7C-949B-EACCFA75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F862DA-51E6-40BD-988B-B6996241F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83D79C-EB11-4388-9297-9205C7F5B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E7FE73-BAC5-49F9-A203-104DE4A2F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93EFDF-7EB4-4462-9DD2-497AA0130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58300A-6040-4035-8344-07CB4C129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6F1E34-D640-449F-B249-A6C1B0AD5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6C8CBF-6E18-4967-8258-4081E8854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2FFCDC-C1CA-41D7-BBE4-514E8AF64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D55F5-D3B8-402F-BC94-9CA0EA75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0C3CE1-0BFD-44A1-9504-92E753618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49CDED-26F5-40E6-B2E7-327ADFE7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CFE5D0-A167-489B-9FF8-A4793C07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26C2F1-3C30-427C-BDB2-A74AA257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6D1162-9261-4C81-9DC2-774B9EBAE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4534F3-0AA2-4BC6-9E84-972DB34F0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ED4B87-0309-4948-845D-F25AE1192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A165CE-62C5-4932-AD26-5B75BAAAA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CFD0A7-D240-446F-83E2-E262E111F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EDB35B-351B-4208-90FE-CB6087E7C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99177-5867-4B23-AE5E-88F0C0E64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78DAAC-7C73-4015-AADB-023C48538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BFF322-97E7-4FDF-BC47-F9BD31190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373189-F14A-4E25-B5F8-260C6A44F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A352B0-5C4F-43C8-86BF-0F652892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6089A6-05CA-4AEA-AC9F-0A96B4DB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2A53B5-DB97-4968-8340-FAB0ECFB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A1BB68-7292-490F-91F1-C799F82CB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C34B58-45D5-47C6-966B-D9EF2A686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A03BBF-5820-4C79-B4D0-DCB48DC7C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F3FCA7-0B60-4DCA-A603-45B13518D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33148-766D-4828-8BC3-A3B43258B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E954BF-65B9-4E55-9112-0633D21C5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63B249-90CB-46EA-BCD2-EDA676587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A0AE54-BD92-473B-B380-77CBAA55D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A33D42-1FF8-442B-83B7-22AF1A26A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2F6B20-5E63-4A52-BC52-9F52310D5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8174F5-EC44-4F02-B9D3-118EBF1E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68928A-8540-4DAA-962C-1791F9F0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4E8DC6-7C72-4826-A059-3090A999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C027B7-F22A-4BE8-B364-D67A800AF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EF5010-F53D-4462-A782-3DEADE507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9798D-A850-47C0-8361-84F15FDF2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91BD2A-CDEB-4720-9BD2-07145E285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CBA9CE-B9AB-44FA-A27C-99090E6D2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09F6B1-DAA8-452D-9CDA-E8F27BB1E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1AF45A-F2E0-45FA-87FD-57C159A70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363560-0CE1-4FBD-8F64-E3577509C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F8D2CE-4CF1-4B89-8996-B10C3F9AC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9DCB62-2EDF-46CE-A375-CFE531080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12A14B-04F9-4829-91F9-EAE3C5D5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5D767C-E45D-444B-9D01-D4CC7E61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413BFA-9286-48A3-99E9-C7F0FC30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31A8A-B5C6-4D6E-8BA4-7301D06FE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ED4678-9EC1-4FF2-B55E-A6BFEE573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763085-F0FA-4623-8E5A-C18C8907B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DDF430-470C-4783-B289-7EC710E4F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D844E-2B2E-4DBA-A3F9-C88F2CDA2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9BB3D-2CF8-4EB3-A488-25820EDB1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2605E-8E02-4E32-883B-29B658AC0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EEDF7-C4A7-47AA-9DC6-392EDC81C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A535-F1DD-4200-A3D6-E0F652D62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81BAA-0799-43C6-ABDA-870C1EE58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82C89-C100-44C6-ADE5-1DA0A9A6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72579-0F2D-42C5-A453-B7C24B1D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F935A-5E5C-48AB-91CC-2DD6843A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6C2B7-B0C5-4F96-A7DA-72290B937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B74DD-93DF-4DB1-B82A-C54FAE53E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64AFA-C95F-4035-A100-607FE9899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3D4C7-5DE0-4D2F-9C0C-F8D8D3F4F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97E09-AC5F-4FF6-A470-9246BE302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A570E-85EE-4E6E-9F9A-729808A19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815B-694A-49ED-A430-D1EBBCC55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35216-F9E4-477B-8C0B-BE0BBDE3B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C0C96-333B-49C3-A71B-77CE93814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D7577-ECCD-4453-A196-7C0640F45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74BBA-5A9A-47C0-9DA6-22B26256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5D651-6338-42FF-8B6A-C4B6686F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58770-E156-4D66-A5D6-4F53E97B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25F8D-F28F-4200-92D3-E3103B14A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A3DA1-65E1-422D-9F27-914A28CEA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D1362-301D-4B7F-9835-CEC4D8288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77458-B49D-4427-A6CE-A5BBBEE26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18EE-5B4F-4F36-ABAD-68233B114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333A7-FFF0-4AFD-83F7-01A8047E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CC92C-4BCB-466D-9389-72F0E2965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98353-5B11-410E-843A-A2F5C26A2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86D77-9B22-42EC-BD8F-850F72228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BD895-E078-4011-94E6-0E979506A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11F16-E01A-4EDD-8CD6-96F56AC3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8559D-443E-4DBB-902F-501C285C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DA4FD-AA00-4D27-9805-4D537F4D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D783B-1947-4D87-A88C-14BEF59EA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2473A-55A8-4CE8-8C4B-529C1FC2E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D7C8-470B-4FC0-9BEA-EBA3D4B70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E692F-E2D0-4F83-A035-A801295CD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F0706-7DDE-4320-9438-D29D6382D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A4C619-1252-4D7C-B897-F697C00D2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73CAA-0C9D-4AF4-B7CC-28F815031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C9C9F-3F4B-4528-9A39-4C796B273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24981-3C29-4E5A-A167-04BEC3D3F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33722-EDAB-4453-9D58-D7CE34FEA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D5A65-A482-4473-8883-4A7891D4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B0AD46-4168-4772-9C81-21176B6E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5DF4D-B1D9-4010-BEC7-CEDB5463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B5DD-4F63-4924-8B2D-2045649D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356F2-1E5D-49B7-8990-DA2FAAB04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66BF2-B025-4012-8B60-6AE33F338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1F8D84-FFBB-4DE9-9111-0C39BA689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0C286-1D8B-4FB6-BF0F-A6F8809A6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5B1AB6-4B88-4499-9DFE-49403E7DF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72E90-2394-4086-89D1-F51A0283D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6D50B1-E899-4C31-B807-236F0D08E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20A64-2260-4858-984F-D89A36DCC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82953-DA2C-414E-84F7-D69E2A480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15C66-AD65-41D6-9D0E-189BF172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C16C-CFE2-4B66-A1C5-372F9F97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6DF51-9127-44E2-BD49-D2179D00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8DF04-F1EA-4248-8CA9-7CF73E45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F45BD1-23A0-4093-96DE-2D1163F17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D2F2EF-4E8F-4FF0-BC59-DEDE29266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788645-DFD9-4C0C-9A6D-0A75E1DC9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911F38-F14F-4685-A0CD-73E0FEDDD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11B412-E67A-4216-B243-BF181F54D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7A5D4D-1F5E-4F5B-9A52-EB2088E1C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15C8E-33A5-4110-B331-FBBC18A70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EBB133-8225-483B-81B3-3916ABAF5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8192-048C-4E23-99F1-37370F98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6C5D2D-76AF-40A8-82FA-55F15158D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EEC910-6478-4092-AA9E-1E80AA9D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A3E964-80A2-44F5-AA3C-B41CCD44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79DF5-2A78-4DB6-9E8C-B2C2B08D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9E019-0D8D-4200-AE8D-50EA598D5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ADC747-730F-4237-8D6F-DC827BFBA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0B4C9-3FB2-40DC-89C9-73B5CC0D0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F8A733-2A97-49B6-90DE-F7BC0B6D4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860294-3177-41D3-8BD3-45CA4A7B0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D2238F-366C-4D40-84C1-54B2D487C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6236C-29CD-4189-8083-4DB3E1147C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9FC46-FE9D-46CD-8973-FCD96DC841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6666D-EA57-412B-BCE2-80EB99F5BC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058FA-EC61-45D6-9F3C-EEA3EFED8D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539A4-E425-4DA0-9588-6639766FFE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A6943-A939-49E6-BE0F-58CDA1C410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AC6A3-1718-4CE9-89C7-8EEDD00087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51B85-C3A2-473E-8348-D1FC1EB67A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B18D8-028D-4CE8-925E-FCEC3D951C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B4C86-64DE-460C-B365-5595BE1CE7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4485B-B800-41A0-A02A-4BF586111B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C02CB-3810-49E4-B636-8C4A8F6A51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12896-9BBC-4DDE-A421-8746C311F9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B40E-16BC-4DB9-B745-6CCC702A9C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2ABCF-8424-468A-A238-5DA4F50DB4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98ED0-AD55-49C0-B4D0-B32AC84FE8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B443C-DF11-4B0E-B1E0-E0812560AB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9E034-FC35-4E16-A35F-3B84C04823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1E2BE-E6CE-4957-956E-38950A4601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8B9F-EEA9-4346-8EF6-1AE0F5567D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2FEFA-3B67-46C4-9B3C-F8511D74D9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C940A-347F-4DD4-885D-0D22C804F9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C81C8-22BC-4CA7-B2BD-6164343A30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DD61D-E1BA-4E8D-BBBA-F6BCF2EB24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79538-6624-42C1-B6B5-F1DCF3C2B7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9261C-24EB-4D88-9D2F-B8AC997BC7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CEAE3-2D30-4164-8C21-2E04502922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8FDB0-90AD-41C8-9D0E-FBF09B9576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01A5A-3D5F-4C4C-AB08-282E19098B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D29B3-5C8B-4A87-8A1F-E98010F5EF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2F0E7-444F-499B-97A4-CCC124E164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5A756-D19E-4018-A45A-73ED51818A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5F81B-15B2-4798-A13E-F5EA096E2D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1705-E059-4BA9-B94C-737588204D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B2A7C-8678-4B08-B5F9-C9FCEA48E4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DBF6-3924-4868-B434-33BA45D28A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E775B-68FE-4717-B1E7-8A1548087B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85271-753F-4058-90A3-DDA50234EB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CF627-BD2C-4759-9DCB-624EC1D259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7DDEA-0E4A-43C0-A2D4-100712D592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431640" y="3233880"/>
            <a:ext cx="802800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042920" y="755640"/>
            <a:ext cx="7128000" cy="60580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3" descr=""/>
          <p:cNvPicPr/>
          <p:nvPr/>
        </p:nvPicPr>
        <p:blipFill>
          <a:blip r:embed="rId2"/>
          <a:stretch/>
        </p:blipFill>
        <p:spPr>
          <a:xfrm>
            <a:off x="4788000" y="3892680"/>
            <a:ext cx="431640" cy="43812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3" descr=""/>
          <p:cNvPicPr/>
          <p:nvPr/>
        </p:nvPicPr>
        <p:blipFill>
          <a:blip r:embed="rId3"/>
          <a:stretch/>
        </p:blipFill>
        <p:spPr>
          <a:xfrm>
            <a:off x="4500720" y="4694400"/>
            <a:ext cx="431640" cy="4381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3" descr=""/>
          <p:cNvPicPr/>
          <p:nvPr/>
        </p:nvPicPr>
        <p:blipFill>
          <a:blip r:embed="rId4"/>
          <a:stretch/>
        </p:blipFill>
        <p:spPr>
          <a:xfrm>
            <a:off x="5364000" y="547992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3" descr=""/>
          <p:cNvPicPr/>
          <p:nvPr/>
        </p:nvPicPr>
        <p:blipFill>
          <a:blip r:embed="rId5"/>
          <a:stretch/>
        </p:blipFill>
        <p:spPr>
          <a:xfrm>
            <a:off x="5292720" y="6242040"/>
            <a:ext cx="4316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4" name="Picture 2" descr=""/>
          <p:cNvPicPr/>
          <p:nvPr/>
        </p:nvPicPr>
        <p:blipFill>
          <a:blip r:embed="rId1"/>
          <a:stretch/>
        </p:blipFill>
        <p:spPr>
          <a:xfrm>
            <a:off x="533520" y="907920"/>
            <a:ext cx="8076960" cy="568656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3" descr=""/>
          <p:cNvPicPr/>
          <p:nvPr/>
        </p:nvPicPr>
        <p:blipFill>
          <a:blip r:embed="rId2"/>
          <a:stretch/>
        </p:blipFill>
        <p:spPr>
          <a:xfrm>
            <a:off x="1763640" y="184464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3" descr=""/>
          <p:cNvPicPr/>
          <p:nvPr/>
        </p:nvPicPr>
        <p:blipFill>
          <a:blip r:embed="rId3"/>
          <a:stretch/>
        </p:blipFill>
        <p:spPr>
          <a:xfrm>
            <a:off x="1763640" y="351468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3" descr=""/>
          <p:cNvPicPr/>
          <p:nvPr/>
        </p:nvPicPr>
        <p:blipFill>
          <a:blip r:embed="rId4"/>
          <a:stretch/>
        </p:blipFill>
        <p:spPr>
          <a:xfrm>
            <a:off x="1763640" y="5222880"/>
            <a:ext cx="4320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0" name="Picture 1" descr=""/>
          <p:cNvPicPr/>
          <p:nvPr/>
        </p:nvPicPr>
        <p:blipFill>
          <a:blip r:embed="rId1"/>
          <a:stretch/>
        </p:blipFill>
        <p:spPr>
          <a:xfrm>
            <a:off x="519120" y="907920"/>
            <a:ext cx="8105760" cy="570564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3" descr=""/>
          <p:cNvPicPr/>
          <p:nvPr/>
        </p:nvPicPr>
        <p:blipFill>
          <a:blip r:embed="rId2"/>
          <a:stretch/>
        </p:blipFill>
        <p:spPr>
          <a:xfrm>
            <a:off x="1763640" y="98100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3" descr=""/>
          <p:cNvPicPr/>
          <p:nvPr/>
        </p:nvPicPr>
        <p:blipFill>
          <a:blip r:embed="rId3"/>
          <a:stretch/>
        </p:blipFill>
        <p:spPr>
          <a:xfrm>
            <a:off x="1763640" y="363852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3" descr=""/>
          <p:cNvPicPr/>
          <p:nvPr/>
        </p:nvPicPr>
        <p:blipFill>
          <a:blip r:embed="rId4"/>
          <a:stretch/>
        </p:blipFill>
        <p:spPr>
          <a:xfrm>
            <a:off x="1763640" y="5229360"/>
            <a:ext cx="4320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6" name="Picture 1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7391520" cy="384840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2" descr=""/>
          <p:cNvPicPr/>
          <p:nvPr/>
        </p:nvPicPr>
        <p:blipFill>
          <a:blip r:embed="rId2"/>
          <a:stretch/>
        </p:blipFill>
        <p:spPr>
          <a:xfrm>
            <a:off x="858960" y="5067360"/>
            <a:ext cx="7200720" cy="14572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3" descr=""/>
          <p:cNvPicPr/>
          <p:nvPr/>
        </p:nvPicPr>
        <p:blipFill>
          <a:blip r:embed="rId3"/>
          <a:stretch/>
        </p:blipFill>
        <p:spPr>
          <a:xfrm>
            <a:off x="1403280" y="263700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3" descr=""/>
          <p:cNvPicPr/>
          <p:nvPr/>
        </p:nvPicPr>
        <p:blipFill>
          <a:blip r:embed="rId4"/>
          <a:stretch/>
        </p:blipFill>
        <p:spPr>
          <a:xfrm>
            <a:off x="1258920" y="5084640"/>
            <a:ext cx="4316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2" name="Picture 1" descr=""/>
          <p:cNvPicPr/>
          <p:nvPr/>
        </p:nvPicPr>
        <p:blipFill>
          <a:blip r:embed="rId1"/>
          <a:stretch/>
        </p:blipFill>
        <p:spPr>
          <a:xfrm>
            <a:off x="471600" y="907920"/>
            <a:ext cx="8200800" cy="566748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3" descr=""/>
          <p:cNvPicPr/>
          <p:nvPr/>
        </p:nvPicPr>
        <p:blipFill>
          <a:blip r:embed="rId2"/>
          <a:stretch/>
        </p:blipFill>
        <p:spPr>
          <a:xfrm>
            <a:off x="1763640" y="2708280"/>
            <a:ext cx="4320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6" name="Picture 1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7791480" cy="496260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3" descr=""/>
          <p:cNvPicPr/>
          <p:nvPr/>
        </p:nvPicPr>
        <p:blipFill>
          <a:blip r:embed="rId2"/>
          <a:stretch/>
        </p:blipFill>
        <p:spPr>
          <a:xfrm>
            <a:off x="3995640" y="1341360"/>
            <a:ext cx="863640" cy="43812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3" descr=""/>
          <p:cNvPicPr/>
          <p:nvPr/>
        </p:nvPicPr>
        <p:blipFill>
          <a:blip r:embed="rId3"/>
          <a:stretch/>
        </p:blipFill>
        <p:spPr>
          <a:xfrm>
            <a:off x="7451640" y="1341360"/>
            <a:ext cx="865440" cy="43812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3" descr=""/>
          <p:cNvPicPr/>
          <p:nvPr/>
        </p:nvPicPr>
        <p:blipFill>
          <a:blip r:embed="rId4"/>
          <a:stretch/>
        </p:blipFill>
        <p:spPr>
          <a:xfrm>
            <a:off x="5508720" y="2205000"/>
            <a:ext cx="863640" cy="43812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3" descr=""/>
          <p:cNvPicPr/>
          <p:nvPr/>
        </p:nvPicPr>
        <p:blipFill>
          <a:blip r:embed="rId5"/>
          <a:stretch/>
        </p:blipFill>
        <p:spPr>
          <a:xfrm>
            <a:off x="3276720" y="3068640"/>
            <a:ext cx="863640" cy="43812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3" descr=""/>
          <p:cNvPicPr/>
          <p:nvPr/>
        </p:nvPicPr>
        <p:blipFill>
          <a:blip r:embed="rId6"/>
          <a:stretch/>
        </p:blipFill>
        <p:spPr>
          <a:xfrm>
            <a:off x="1908000" y="3927600"/>
            <a:ext cx="863640" cy="43812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3" descr=""/>
          <p:cNvPicPr/>
          <p:nvPr/>
        </p:nvPicPr>
        <p:blipFill>
          <a:blip r:embed="rId7"/>
          <a:stretch/>
        </p:blipFill>
        <p:spPr>
          <a:xfrm>
            <a:off x="3203640" y="4786200"/>
            <a:ext cx="8636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5" name="Picture 1" descr=""/>
          <p:cNvPicPr/>
          <p:nvPr/>
        </p:nvPicPr>
        <p:blipFill>
          <a:blip r:embed="rId1"/>
          <a:stretch/>
        </p:blipFill>
        <p:spPr>
          <a:xfrm>
            <a:off x="571680" y="906480"/>
            <a:ext cx="8001000" cy="576252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3" descr=""/>
          <p:cNvPicPr/>
          <p:nvPr/>
        </p:nvPicPr>
        <p:blipFill>
          <a:blip r:embed="rId2"/>
          <a:stretch/>
        </p:blipFill>
        <p:spPr>
          <a:xfrm>
            <a:off x="4932360" y="1844640"/>
            <a:ext cx="863640" cy="43812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3" descr=""/>
          <p:cNvPicPr/>
          <p:nvPr/>
        </p:nvPicPr>
        <p:blipFill>
          <a:blip r:embed="rId3"/>
          <a:stretch/>
        </p:blipFill>
        <p:spPr>
          <a:xfrm>
            <a:off x="3708360" y="3597120"/>
            <a:ext cx="863640" cy="43848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3" descr=""/>
          <p:cNvPicPr/>
          <p:nvPr/>
        </p:nvPicPr>
        <p:blipFill>
          <a:blip r:embed="rId4"/>
          <a:stretch/>
        </p:blipFill>
        <p:spPr>
          <a:xfrm>
            <a:off x="2556000" y="5300640"/>
            <a:ext cx="863640" cy="43812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3" descr=""/>
          <p:cNvPicPr/>
          <p:nvPr/>
        </p:nvPicPr>
        <p:blipFill>
          <a:blip r:embed="rId5"/>
          <a:stretch/>
        </p:blipFill>
        <p:spPr>
          <a:xfrm>
            <a:off x="6948360" y="6165720"/>
            <a:ext cx="8636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2" name="Picture 1" descr=""/>
          <p:cNvPicPr/>
          <p:nvPr/>
        </p:nvPicPr>
        <p:blipFill>
          <a:blip r:embed="rId1"/>
          <a:stretch/>
        </p:blipFill>
        <p:spPr>
          <a:xfrm>
            <a:off x="900000" y="981000"/>
            <a:ext cx="7448760" cy="303840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3" descr=""/>
          <p:cNvPicPr/>
          <p:nvPr/>
        </p:nvPicPr>
        <p:blipFill>
          <a:blip r:embed="rId2"/>
          <a:stretch/>
        </p:blipFill>
        <p:spPr>
          <a:xfrm>
            <a:off x="2195640" y="1052640"/>
            <a:ext cx="8636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30:00Z</dcterms:modified>
  <cp:revision>1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